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EB80-BF84-408A-8990-C95824DCA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DF10-B603-4860-A1C9-2259714F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EEEC-C072-4C63-83F2-7CE4754BD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089D-3BF4-4801-9538-B99C31D33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4AF5-8F83-4B37-BA3A-D21D01187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2AB6-ECB0-45B5-97A0-4EECE60B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8F26-5810-4225-B916-B126DF73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CCF10-02AC-4ED5-B262-D586D192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F5CB-70F0-445C-B86C-DCAC4A72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06B7-955E-41A6-B782-7BD788C2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A7BD-D9AA-4800-BE7F-EC92F935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AF0A-D402-4A8F-A14A-4F728535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314C-B61A-4529-A62E-A7FB0708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A2B8-885C-4516-879E-E67C0778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AF9B-C318-4C6C-A99D-5CDA334D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CF12-3C16-4DA3-88DA-90CE72710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FDA3-107B-42A7-A3C8-86C117C50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DD3D-CF29-4243-B4EB-2E61A932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50FE-87FF-41E2-BA64-864716A8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76A2-B159-4BBA-A558-6080E2AD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349B-AE0A-43AC-8108-5AAD2B35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8405-036B-4763-9BB5-B88E6135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B7C7-E574-46E2-A1E0-DA0CCCE2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BA30-C3C0-4F94-824C-D0E034D4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240"/>
              <a:ext cx="2869560" cy="2268720"/>
              <a:chOff x="6274080" y="-21240"/>
              <a:chExt cx="2869560" cy="226872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240"/>
                <a:ext cx="2866320" cy="2268720"/>
                <a:chOff x="6274080" y="-21240"/>
                <a:chExt cx="2866320" cy="226872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3960" y="843120"/>
                  <a:ext cx="1063440" cy="1141200"/>
                  <a:chOff x="7833960" y="843120"/>
                  <a:chExt cx="1063440" cy="114120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59800" y="1133640"/>
                    <a:ext cx="8866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8160" y="1604520"/>
                    <a:ext cx="46980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240"/>
                  <a:chOff x="7852320" y="657720"/>
                  <a:chExt cx="1223640" cy="41724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6040" y="799200"/>
                    <a:ext cx="42516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760"/>
                  <a:ext cx="984240" cy="326880"/>
                  <a:chOff x="7845840" y="419760"/>
                  <a:chExt cx="98424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720"/>
                    <a:ext cx="6339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5840" y="456120"/>
                    <a:ext cx="338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040" y="906120"/>
                  <a:ext cx="1062360" cy="1142280"/>
                  <a:chOff x="6539040" y="906120"/>
                  <a:chExt cx="1062360" cy="114228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5360" y="1195200"/>
                    <a:ext cx="88020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8840" y="1665000"/>
                    <a:ext cx="47160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480" y="930600"/>
                  <a:ext cx="915120" cy="1247400"/>
                  <a:chOff x="6711480" y="930600"/>
                  <a:chExt cx="915120" cy="12474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3320" y="1260360"/>
                    <a:ext cx="894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760"/>
                    <a:ext cx="47340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560"/>
                  <a:ext cx="618840" cy="1247760"/>
                  <a:chOff x="7014960" y="979560"/>
                  <a:chExt cx="618840" cy="124776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7240" y="1312200"/>
                    <a:ext cx="82764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320" y="1001160"/>
                  <a:ext cx="363240" cy="1217160"/>
                  <a:chOff x="7312320" y="1001160"/>
                  <a:chExt cx="363240" cy="121716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0760" y="1878120"/>
                    <a:ext cx="42228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680" y="1289160"/>
                    <a:ext cx="8452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79480" y="1839960"/>
                    <a:ext cx="4550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480" cy="1242360"/>
                  <a:chOff x="7756920" y="1005120"/>
                  <a:chExt cx="51048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5160" y="1352880"/>
                    <a:ext cx="8240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400"/>
                  <a:ext cx="290520" cy="1156320"/>
                  <a:chOff x="7733880" y="1058400"/>
                  <a:chExt cx="290520" cy="115632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5400" y="1375920"/>
                    <a:ext cx="75132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120" y="1899000"/>
                    <a:ext cx="40860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7200" cy="1131480"/>
                  <a:chOff x="7500240" y="1077840"/>
                  <a:chExt cx="27720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19160" y="1404720"/>
                    <a:ext cx="74448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6560" y="1927080"/>
                    <a:ext cx="39888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AC1D-FD20-4004-9065-66E40FF9A0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1120"/>
            <a:chOff x="2010960" y="245520"/>
            <a:chExt cx="6896160" cy="545112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60840"/>
              <a:ext cx="945720" cy="709920"/>
              <a:chOff x="3484080" y="960840"/>
              <a:chExt cx="945720" cy="70992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6084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7260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1120"/>
              <a:chOff x="2010960" y="245520"/>
              <a:chExt cx="6896160" cy="545112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120"/>
                <a:chOff x="2010960" y="245520"/>
                <a:chExt cx="6891120" cy="545112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3600"/>
                  <a:ext cx="3599280" cy="2652480"/>
                  <a:chOff x="3735720" y="1263600"/>
                  <a:chExt cx="3599280" cy="265248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3600"/>
                    <a:ext cx="3599280" cy="2652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880"/>
                    <a:ext cx="712440" cy="498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120"/>
                  <a:chOff x="2010960" y="245520"/>
                  <a:chExt cx="6891120" cy="545112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1080" y="2320560"/>
                    <a:ext cx="2559600" cy="2741040"/>
                    <a:chOff x="5761080" y="2320560"/>
                    <a:chExt cx="2559600" cy="27410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600" y="3018600"/>
                      <a:ext cx="212904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360" y="2143800"/>
                    <a:ext cx="3040200" cy="2530080"/>
                    <a:chOff x="5787360" y="2143800"/>
                    <a:chExt cx="3040200" cy="253008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46800"/>
                      <a:ext cx="2235600" cy="42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360" y="3717720"/>
                      <a:ext cx="12009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58840"/>
                    <a:ext cx="3098160" cy="1995120"/>
                    <a:chOff x="5774760" y="2058840"/>
                    <a:chExt cx="3098160" cy="199512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320" y="2514600"/>
                      <a:ext cx="214056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880" y="3241800"/>
                      <a:ext cx="114912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560" y="1967400"/>
                    <a:ext cx="3134520" cy="1607760"/>
                    <a:chOff x="5767560" y="1967400"/>
                    <a:chExt cx="3134520" cy="160776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0880" y="2276640"/>
                      <a:ext cx="2067480" cy="41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0200"/>
                      <a:ext cx="1110600" cy="64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5720" y="1874160"/>
                    <a:ext cx="2939040" cy="1002960"/>
                    <a:chOff x="5805720" y="1874160"/>
                    <a:chExt cx="2939040" cy="100296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2640" y="2000160"/>
                      <a:ext cx="1903680" cy="38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07520"/>
                      <a:ext cx="102312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080" y="1812240"/>
                    <a:ext cx="2658960" cy="443880"/>
                    <a:chOff x="5851080" y="1812240"/>
                    <a:chExt cx="2658960" cy="44388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3960" y="1848240"/>
                      <a:ext cx="1730880" cy="27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120" y="1823760"/>
                      <a:ext cx="929520" cy="42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0320"/>
                    <a:ext cx="2364120" cy="785520"/>
                    <a:chOff x="5788440" y="1300320"/>
                    <a:chExt cx="2364120" cy="7855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480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88880"/>
                      <a:ext cx="81648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5640" y="2472120"/>
                    <a:ext cx="2555640" cy="2739600"/>
                    <a:chOff x="2645640" y="2472120"/>
                    <a:chExt cx="2555640" cy="273960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2240" y="3169080"/>
                      <a:ext cx="21254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000" y="4293360"/>
                      <a:ext cx="114012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040" y="2363760"/>
                    <a:ext cx="3039480" cy="2532960"/>
                    <a:chOff x="2084040" y="2363760"/>
                    <a:chExt cx="3039480" cy="253296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920" y="2966400"/>
                      <a:ext cx="2234160" cy="42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7920" y="3939480"/>
                      <a:ext cx="1199880" cy="67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120" y="2277360"/>
                    <a:ext cx="3097080" cy="1992240"/>
                    <a:chOff x="2040120" y="2277360"/>
                    <a:chExt cx="309708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312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0320" y="345780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3760"/>
                    <a:ext cx="3134520" cy="1608840"/>
                    <a:chOff x="2010960" y="2183760"/>
                    <a:chExt cx="3134520" cy="160884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3000"/>
                      <a:ext cx="206784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88000"/>
                      <a:ext cx="1110600" cy="64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183"/>
                  <p:cNvGrpSpPr/>
                  <p:nvPr/>
                </p:nvGrpSpPr>
                <p:grpSpPr>
                  <a:xfrm>
                    <a:off x="2167560" y="2092680"/>
                    <a:ext cx="2937240" cy="1002600"/>
                    <a:chOff x="2167560" y="2092680"/>
                    <a:chExt cx="2937240" cy="10026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480" y="2218680"/>
                      <a:ext cx="1903680" cy="38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3560" y="2425680"/>
                      <a:ext cx="102312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27160"/>
                    <a:ext cx="2658600" cy="448920"/>
                    <a:chOff x="2403720" y="2027160"/>
                    <a:chExt cx="2658600" cy="4489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280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38320"/>
                      <a:ext cx="929520" cy="42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17760"/>
                    <a:ext cx="2363760" cy="788040"/>
                    <a:chOff x="2760840" y="1517760"/>
                    <a:chExt cx="2363760" cy="78804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3520" y="186804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06320"/>
                      <a:ext cx="816120" cy="42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920" y="1233000"/>
                    <a:ext cx="2323080" cy="1083240"/>
                    <a:chOff x="2887920" y="1233000"/>
                    <a:chExt cx="2323080" cy="108324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3600" y="178344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5080" y="1366920"/>
                      <a:ext cx="816120" cy="41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28360"/>
                    <a:ext cx="2170080" cy="1505520"/>
                    <a:chOff x="3161160" y="828360"/>
                    <a:chExt cx="2170080" cy="150552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678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1988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5600"/>
                    <a:ext cx="1987200" cy="1828080"/>
                    <a:chOff x="3437640" y="435600"/>
                    <a:chExt cx="1987200" cy="182808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320" y="1496160"/>
                      <a:ext cx="154260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5000" y="665640"/>
                      <a:ext cx="8283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30920" y="322200"/>
                    <a:ext cx="1459440" cy="1898640"/>
                    <a:chOff x="4030920" y="322200"/>
                    <a:chExt cx="1459440" cy="189864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200" y="1441800"/>
                      <a:ext cx="13600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6320" y="533160"/>
                      <a:ext cx="7293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7800" y="245520"/>
                    <a:ext cx="1124280" cy="1948320"/>
                    <a:chOff x="4447800" y="245520"/>
                    <a:chExt cx="1124280" cy="19483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160" y="1402560"/>
                      <a:ext cx="13096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480" y="440640"/>
                      <a:ext cx="70344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46080"/>
                    <a:ext cx="2318760" cy="1113840"/>
                    <a:chOff x="5661720" y="946080"/>
                    <a:chExt cx="2318760" cy="11138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18120"/>
                      <a:ext cx="151992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84320"/>
                      <a:ext cx="81756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18840"/>
                    <a:ext cx="2201400" cy="1452600"/>
                    <a:chOff x="5529600" y="618840"/>
                    <a:chExt cx="2201400" cy="14526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3080"/>
                      <a:ext cx="151992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3520"/>
                      <a:ext cx="81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040" y="1460520"/>
                    <a:ext cx="12661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5920" y="531360"/>
                    <a:ext cx="68004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60040" y="269280"/>
                    <a:ext cx="1189800" cy="1892880"/>
                    <a:chOff x="5360040" y="269280"/>
                    <a:chExt cx="1189800" cy="189288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91840" y="1410120"/>
                      <a:ext cx="13078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5280" y="485640"/>
                      <a:ext cx="70380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9960" y="379080"/>
                    <a:ext cx="1890720" cy="1797120"/>
                    <a:chOff x="5349960" y="379080"/>
                    <a:chExt cx="1890720" cy="179712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9520" y="1378080"/>
                      <a:ext cx="142884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2960" y="576360"/>
                      <a:ext cx="768240" cy="52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040" y="290520"/>
                    <a:ext cx="425160" cy="1793520"/>
                    <a:chOff x="5459040" y="290520"/>
                    <a:chExt cx="425160" cy="179352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7240" y="1441080"/>
                      <a:ext cx="117720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1040" y="531360"/>
                      <a:ext cx="63072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7200"/>
                    <a:ext cx="2194200" cy="3004560"/>
                    <a:chOff x="3063240" y="2527200"/>
                    <a:chExt cx="2194200" cy="300456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6040" y="3313080"/>
                      <a:ext cx="213048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89640"/>
                      <a:ext cx="114012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0800" y="2643840"/>
                    <a:ext cx="1481400" cy="3006000"/>
                    <a:chOff x="3790800" y="2643840"/>
                    <a:chExt cx="1481400" cy="300600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6440" y="3435120"/>
                      <a:ext cx="1967760" cy="38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2560" y="4745160"/>
                      <a:ext cx="105588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4680" y="2691720"/>
                    <a:ext cx="874440" cy="2935440"/>
                    <a:chOff x="4504680" y="2691720"/>
                    <a:chExt cx="874440" cy="293544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79520" y="3480120"/>
                      <a:ext cx="189252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2480" y="4805280"/>
                      <a:ext cx="1013040" cy="54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9360" y="2478960"/>
                    <a:ext cx="2279160" cy="2955600"/>
                    <a:chOff x="5679360" y="2478960"/>
                    <a:chExt cx="2279160" cy="29556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47560"/>
                      <a:ext cx="212904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604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6240" y="2589840"/>
                    <a:ext cx="1758240" cy="3032640"/>
                    <a:chOff x="5646240" y="2589840"/>
                    <a:chExt cx="1758240" cy="303264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2840" y="3393000"/>
                      <a:ext cx="2036520" cy="36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8520"/>
                      <a:ext cx="1089720" cy="57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040" y="2706120"/>
                    <a:ext cx="1229040" cy="2990520"/>
                    <a:chOff x="5576040" y="2706120"/>
                    <a:chExt cx="1229040" cy="29905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120" y="3538800"/>
                      <a:ext cx="19749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9880" y="4879800"/>
                      <a:ext cx="106128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6080"/>
                    <a:ext cx="696600" cy="2783880"/>
                    <a:chOff x="5521320" y="2836080"/>
                    <a:chExt cx="696600" cy="278388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5640" y="3603960"/>
                      <a:ext cx="18144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480" y="4865760"/>
                      <a:ext cx="97488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4040" y="2881800"/>
                    <a:ext cx="664560" cy="2720160"/>
                    <a:chOff x="4964040" y="2881800"/>
                    <a:chExt cx="664560" cy="272016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3480" y="3661200"/>
                      <a:ext cx="177624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7800" y="4928040"/>
                      <a:ext cx="95148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76800"/>
                <a:ext cx="6732720" cy="4526280"/>
                <a:chOff x="2174400" y="676800"/>
                <a:chExt cx="6732720" cy="452628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76800"/>
                  <a:ext cx="6732720" cy="4526280"/>
                  <a:chOff x="2174400" y="676800"/>
                  <a:chExt cx="6732720" cy="452628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0320"/>
                    <a:ext cx="3166560" cy="2529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7640"/>
                    <a:ext cx="2486880" cy="2935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46720"/>
                    <a:ext cx="1758240" cy="29390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2760"/>
                    <a:ext cx="3133440" cy="2940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76800"/>
                    <a:ext cx="2282760" cy="2845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0200"/>
                    <a:ext cx="940680" cy="2844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28720"/>
                    <a:ext cx="515160" cy="18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560" y="2178720"/>
                  <a:ext cx="546120" cy="103428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46640"/>
              <a:ext cx="6411960" cy="4712040"/>
              <a:chOff x="2343960" y="746640"/>
              <a:chExt cx="6411960" cy="47120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70600"/>
                <a:ext cx="598320" cy="1825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615040"/>
                <a:ext cx="2617200" cy="284364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57120"/>
                <a:ext cx="1534320" cy="293616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73360"/>
                <a:ext cx="2930760" cy="293616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85560"/>
                <a:ext cx="469800" cy="29361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71880"/>
                <a:ext cx="1238040" cy="29361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83080"/>
                <a:ext cx="598320" cy="1825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7200" y="2982240"/>
                <a:ext cx="543600" cy="1034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420000"/>
                <a:ext cx="1338480" cy="1880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32800"/>
                <a:ext cx="858240" cy="1880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43520"/>
                <a:ext cx="1242000" cy="1974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44880"/>
                <a:ext cx="1872360" cy="1316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46640"/>
                <a:ext cx="819000" cy="1769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89520"/>
                <a:ext cx="542880" cy="1032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29F1-A1DB-45C6-B31C-95EC7E00F890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5335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1" name="Picture 1" descr=""/>
          <p:cNvPicPr/>
          <p:nvPr/>
        </p:nvPicPr>
        <p:blipFill>
          <a:blip r:embed="rId1"/>
          <a:stretch/>
        </p:blipFill>
        <p:spPr>
          <a:xfrm>
            <a:off x="3027240" y="-152280"/>
            <a:ext cx="6066000" cy="70866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11160" y="4267080"/>
            <a:ext cx="50292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Road to the U.S. The Declaration of Independen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ercive/Intolerable Ac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Coercive/Intolerable Acts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Closed the port of Bost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ook away trial by jur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llowed soldiers to enter homes without warran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Made public assembly illega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llowed for the quartering of soldier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uspended Habeas Corpu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ook local control away from the legislative assembl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First Continental Congres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o fight the Intolerable Acts representatives from 12 of the colonies met together in 1774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y decided to send a letter to King George III demanding rights be restored (and threatening to boycott again)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letter was ignored by King George III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tinu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n important agreement that was made by the delegates was that an attack by England upon one of the colonies would be viewed as an attack on each of the colonies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s is the beginning of a unified American front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lso, the delegates decided to meet again if things didn’t get better in a year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-381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econd Continental Congres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52280" y="272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King refused to give in. Later that year colonial militias and British soldiers shot at each other in the towns of Lexington and Concord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 May 1775, delegates assembled in Philadelphia for a Second Continental Congres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ome wanted Independence while others wanted to reconcile with England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2590920" y="533520"/>
            <a:ext cx="3276360" cy="217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Declaration of Independenc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fter a year a committee was formed to write a formal declaration of American independenc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omas Jefferson was the main writer (Took many ideas from English Philosopher </a:t>
            </a:r>
            <a:r>
              <a:rPr b="0" lang="en-US" sz="2800" spc="-1" strike="noStrike">
                <a:solidFill>
                  <a:srgbClr val="0070c0"/>
                </a:solidFill>
                <a:latin typeface="Arial Black"/>
              </a:rPr>
              <a:t>John Locke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alled for a new form of government, equal rights and </a:t>
            </a:r>
            <a:r>
              <a:rPr b="0" lang="en-US" sz="2800" spc="-1" strike="noStrike">
                <a:solidFill>
                  <a:srgbClr val="92d050"/>
                </a:solidFill>
                <a:latin typeface="Arial Black"/>
              </a:rPr>
              <a:t>listed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the </a:t>
            </a:r>
            <a:r>
              <a:rPr b="0" lang="en-US" sz="2800" spc="-1" strike="noStrike">
                <a:solidFill>
                  <a:srgbClr val="92d050"/>
                </a:solidFill>
                <a:latin typeface="Arial Black"/>
              </a:rPr>
              <a:t>grievances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against the k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Declaration of Independenc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Jefferson believed that because of a </a:t>
            </a:r>
            <a:r>
              <a:rPr b="0" lang="en-US" sz="2800" spc="-1" strike="noStrike">
                <a:solidFill>
                  <a:srgbClr val="00b0f0"/>
                </a:solidFill>
                <a:latin typeface="Arial Black"/>
              </a:rPr>
              <a:t>“long train of abuses”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at the British government no longer had authority over the colonie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>
            <a:off x="1681200" y="0"/>
            <a:ext cx="5786280" cy="6864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n </a:t>
            </a:r>
            <a:r>
              <a:rPr b="0" lang="en-US" sz="4400" spc="-1" strike="noStrike">
                <a:solidFill>
                  <a:srgbClr val="92d050"/>
                </a:solidFill>
                <a:latin typeface="Arial Black"/>
              </a:rPr>
              <a:t>July 4th 1776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legates voted to approve the wording of the Declaration of Independence and pledged </a:t>
            </a: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“their lives, their fortunes and their sacred honor”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ysAdmin</cp:lastModifiedBy>
  <dcterms:modified xsi:type="dcterms:W3CDTF">2011-09-02T11:26:25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